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254-8225-4F66-8DE1-43CA8E6E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364-9F1E-4053-9541-F7D86D99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34D-741B-4F9C-BA9D-8CD1E27F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013-41A6-443B-BC2D-06CD7AC1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1118-BDBF-4565-90DB-2F67AE1E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4519-0A68-46CC-861F-D5E0762A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08B4-16DF-4CF1-9890-547A1403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E559-9A6F-4D94-8579-877A77B0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EDC3-5EE0-46F6-8B8A-06C1DCA6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BDF6-DB50-4A10-9D00-0F911006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C058-190F-4E89-A843-F83F7DEA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11E-7116-48FF-8D91-B072B217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F5BA-6352-4FFD-8F0A-74110EA1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6CC4-3481-46FE-8A27-738D8734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07C9-EA18-41E9-A475-675F97FE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D074-7F02-45B6-B817-087D8FA6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A6B9-F180-4751-8DBE-17E68EB1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3D122-E1C8-4961-A761-82060F4E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CEEFF-58EC-43C8-8C20-9447E746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A0176-FAC1-4AEA-827C-76B28572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F011E-99CF-4D3E-ABDF-6A45EAE5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5B6C0-8BD0-48E5-A717-3A16A850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579-FFB5-4780-BC91-10639002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D8746-156F-4BD9-BD95-A8FDAD59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7E61B-1721-4ECF-9191-62B00D3E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DFC52-B4E3-4443-9725-FFFF8368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4B05B-993A-4295-9A87-D8953F22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62BF2-130D-4D89-97FB-96D69426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F966C-A405-49D8-A6A8-861DD783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BDC21-2CBA-422B-A9EF-50C9D978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F7ADD-669E-43D5-AF10-048A7A13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82B7C-430A-40C6-BFCD-AE375D05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53E6-199A-412D-981C-65CA2FF2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E42-F433-45A0-A609-1ADC8326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55251-9976-4380-9D77-BCD0B943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A3F93-EB79-4EFE-AACE-5237E907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64D03-C909-4615-8B42-940B6AB5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4A84-2F03-4210-8E1A-F5FFF948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C1D09-8127-43DD-838F-C4619563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29B28-7192-4047-A646-6D8BA2DB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91469-19DF-4BD7-8865-4C961A83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42C2C-B766-49F8-9CED-2F43756A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1AB0F-6398-4497-8F98-B09AB9A5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C36-2E8D-4D7B-8CD2-05C93C4C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02A-4FFA-4029-8C53-929688C7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0F8-D4B7-454F-ABFA-BFE0B3F3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9FA-8811-4715-87B8-532E243C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622-6446-4D39-AEC8-5C360D9C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1FCD-63D0-4714-A6CB-49F6C8662E8A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rostokąt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rostokąt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rostokąt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rostokąt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rostokąt zaokrąglony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rostokąt zaokrąglony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rostokąt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rostokąt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rostokąt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rostokąt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4ABF-C724-4974-BA46-02240F2704B9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D296-A732-421D-A421-0FE2272EA79F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rostokąt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rostokąt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rostokąt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rostokąt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rostokąt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rostokąt zaokrąglony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rostokąt zaokrąglony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rostokąt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rostokąt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rostokąt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rostokąt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rostokąt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rostokąt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BF3B-3BD2-41AC-8ABC-3B9AA3D95183}" type="slidenum"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rebuchet MS"/>
              </a:rPr>
              <a:t>Dodawanie pisemne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424456"/>
              </a:solidFill>
              <a:latin typeface="Georgia"/>
            </a:endParaRPr>
          </a:p>
        </p:txBody>
      </p:sp>
      <p:pic>
        <p:nvPicPr>
          <p:cNvPr id="216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2484360" y="4581360"/>
            <a:ext cx="428796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18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Dodawanie liczb dwucyfrowych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w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od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4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pod liczbą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2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jedności drugiej liczby pod jednościami pierwszej liczby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ziesiątki drugiej liczby pod dziesiątkami pierwszej liczb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jako pierwsze dodajemy jedności czyl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 + 4 = 6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i podpisujemy pod jednościam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jednośc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3 + 2 = 5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32 + 24 = 5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ole tekstowe 7"/>
          <p:cNvSpPr/>
          <p:nvPr/>
        </p:nvSpPr>
        <p:spPr>
          <a:xfrm>
            <a:off x="7161840" y="291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 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3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24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5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26" name="Grupa 25"/>
          <p:cNvGrpSpPr/>
          <p:nvPr/>
        </p:nvGrpSpPr>
        <p:grpSpPr>
          <a:xfrm>
            <a:off x="6872400" y="3995640"/>
            <a:ext cx="1081080" cy="582480"/>
            <a:chOff x="6872400" y="3995640"/>
            <a:chExt cx="1081080" cy="582480"/>
          </a:xfrm>
        </p:grpSpPr>
        <p:sp>
          <p:nvSpPr>
            <p:cNvPr id="227" name="pole tekstowe 12"/>
            <p:cNvSpPr/>
            <p:nvPr/>
          </p:nvSpPr>
          <p:spPr>
            <a:xfrm>
              <a:off x="7158600" y="39956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2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8" name="pole tekstowe 13"/>
            <p:cNvSpPr/>
            <p:nvPr/>
          </p:nvSpPr>
          <p:spPr>
            <a:xfrm>
              <a:off x="7158600" y="42098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4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9" name="Łącznik prostoliniowy 14"/>
            <p:cNvSpPr/>
            <p:nvPr/>
          </p:nvSpPr>
          <p:spPr>
            <a:xfrm>
              <a:off x="6872400" y="4500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0" name="pole tekstowe 15"/>
            <p:cNvSpPr/>
            <p:nvPr/>
          </p:nvSpPr>
          <p:spPr>
            <a:xfrm>
              <a:off x="6966000" y="4146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31" name="pole tekstowe 16"/>
          <p:cNvSpPr/>
          <p:nvPr/>
        </p:nvSpPr>
        <p:spPr>
          <a:xfrm>
            <a:off x="7349040" y="4427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ole tekstowe 23"/>
          <p:cNvSpPr/>
          <p:nvPr/>
        </p:nvSpPr>
        <p:spPr>
          <a:xfrm>
            <a:off x="7158600" y="442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Elipsa 1"/>
          <p:cNvSpPr/>
          <p:nvPr/>
        </p:nvSpPr>
        <p:spPr>
          <a:xfrm>
            <a:off x="7188120" y="4022640"/>
            <a:ext cx="252360" cy="5050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Elipsa 18"/>
          <p:cNvSpPr/>
          <p:nvPr/>
        </p:nvSpPr>
        <p:spPr>
          <a:xfrm>
            <a:off x="7389720" y="4029120"/>
            <a:ext cx="252360" cy="50472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36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Dodawanie liczb trzycyfrowych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dodawanie liczb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435 + 231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wpisujemy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435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następnie podpisujemy prawidłowo liczbę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231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jednośc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dziesiątk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setki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435 + 231 = 66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 3 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ole tekstowe 7"/>
          <p:cNvSpPr/>
          <p:nvPr/>
        </p:nvSpPr>
        <p:spPr>
          <a:xfrm>
            <a:off x="7161840" y="2916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 3 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41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42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3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44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245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4 3 5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6" name="pole tekstowe 13"/>
            <p:cNvSpPr/>
            <p:nvPr/>
          </p:nvSpPr>
          <p:spPr>
            <a:xfrm>
              <a:off x="7161840" y="4572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3 1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7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8" name="pole tekstowe 15"/>
            <p:cNvSpPr/>
            <p:nvPr/>
          </p:nvSpPr>
          <p:spPr>
            <a:xfrm>
              <a:off x="6969240" y="450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49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Elipsa 1"/>
          <p:cNvSpPr/>
          <p:nvPr/>
        </p:nvSpPr>
        <p:spPr>
          <a:xfrm>
            <a:off x="7596360" y="4357800"/>
            <a:ext cx="266400" cy="55224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Elipsa 19"/>
          <p:cNvSpPr/>
          <p:nvPr/>
        </p:nvSpPr>
        <p:spPr>
          <a:xfrm>
            <a:off x="7373880" y="4357800"/>
            <a:ext cx="268200" cy="55224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Elipsa 20"/>
          <p:cNvSpPr/>
          <p:nvPr/>
        </p:nvSpPr>
        <p:spPr>
          <a:xfrm>
            <a:off x="7184880" y="4365720"/>
            <a:ext cx="266760" cy="55080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5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with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7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7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75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75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51" nodeType="after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56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5051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dodawanie liczb: 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45 + 36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13372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podpisujemy prawidłowo liczb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jedności: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5 + 6 = 11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to 1 dziesiątka i 1 jedność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zapisujemy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w rzędzie jedności,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 dziesiątkę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dopisujemy do rzędu dziesiątek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– dodajemy dziesiątki </a:t>
            </a: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1 + 4 + 3 = 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W sumie w rzędzie dziesiątek wpisujemy 8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800" spc="-1" strike="noStrike">
                <a:solidFill>
                  <a:srgbClr val="000000"/>
                </a:solidFill>
                <a:latin typeface="Georgia"/>
              </a:rPr>
              <a:t>45 + 36 = 8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ole tekstowe 6"/>
          <p:cNvSpPr/>
          <p:nvPr/>
        </p:nvSpPr>
        <p:spPr>
          <a:xfrm>
            <a:off x="7161840" y="2708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 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ole tekstowe 7"/>
          <p:cNvSpPr/>
          <p:nvPr/>
        </p:nvSpPr>
        <p:spPr>
          <a:xfrm>
            <a:off x="7161840" y="291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1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62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3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64" name="Grupa 25"/>
          <p:cNvGrpSpPr/>
          <p:nvPr/>
        </p:nvGrpSpPr>
        <p:grpSpPr>
          <a:xfrm>
            <a:off x="6875640" y="4211640"/>
            <a:ext cx="1081080" cy="582480"/>
            <a:chOff x="6875640" y="4211640"/>
            <a:chExt cx="1081080" cy="582480"/>
          </a:xfrm>
        </p:grpSpPr>
        <p:sp>
          <p:nvSpPr>
            <p:cNvPr id="265" name="pole tekstowe 12"/>
            <p:cNvSpPr/>
            <p:nvPr/>
          </p:nvSpPr>
          <p:spPr>
            <a:xfrm>
              <a:off x="7161840" y="42116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4 5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6" name="pole tekstowe 13"/>
            <p:cNvSpPr/>
            <p:nvPr/>
          </p:nvSpPr>
          <p:spPr>
            <a:xfrm>
              <a:off x="7161840" y="44258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6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7" name="Łącznik prostoliniowy 14"/>
            <p:cNvSpPr/>
            <p:nvPr/>
          </p:nvSpPr>
          <p:spPr>
            <a:xfrm>
              <a:off x="6875640" y="47167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8" name="pole tekstowe 15"/>
            <p:cNvSpPr/>
            <p:nvPr/>
          </p:nvSpPr>
          <p:spPr>
            <a:xfrm>
              <a:off x="6969240" y="4362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69" name="pole tekstowe 16"/>
          <p:cNvSpPr/>
          <p:nvPr/>
        </p:nvSpPr>
        <p:spPr>
          <a:xfrm>
            <a:off x="7352280" y="4643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ole tekstowe 26"/>
          <p:cNvSpPr/>
          <p:nvPr/>
        </p:nvSpPr>
        <p:spPr>
          <a:xfrm>
            <a:off x="7155360" y="3986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ole tekstowe 27"/>
          <p:cNvSpPr/>
          <p:nvPr/>
        </p:nvSpPr>
        <p:spPr>
          <a:xfrm>
            <a:off x="7142760" y="465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Elipsa 1"/>
          <p:cNvSpPr/>
          <p:nvPr/>
        </p:nvSpPr>
        <p:spPr>
          <a:xfrm>
            <a:off x="7380360" y="4211640"/>
            <a:ext cx="245880" cy="50472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Elipsa 19"/>
          <p:cNvSpPr/>
          <p:nvPr/>
        </p:nvSpPr>
        <p:spPr>
          <a:xfrm>
            <a:off x="7188120" y="3986280"/>
            <a:ext cx="246240" cy="74916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7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75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75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with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7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with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with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0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75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75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75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75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7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75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75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75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Dodawanie liczb trzycyfrowych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dodawanie liczb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124 + 349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– podpisujemy prawidłowo liczby</a:t>
            </a:r>
            <a:br>
              <a:rPr sz="1300"/>
            </a:b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– dodajemy jedności: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4 + 9 = 13</a:t>
            </a:r>
            <a:br>
              <a:rPr sz="1300"/>
            </a:b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13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 to 1 dziesiątka i 3 jedności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w rzędzie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wpisujemy 3 jedności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600" spc="-1" strike="noStrike">
                <a:solidFill>
                  <a:srgbClr val="00b050"/>
                </a:solidFill>
                <a:latin typeface="Georgia"/>
              </a:rPr>
              <a:t>1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 dziesiątkę dopisujemy do rzędu dziesiątek</a:t>
            </a:r>
            <a:br>
              <a:rPr sz="1300"/>
            </a:b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– dodajemy dziesiątki </a:t>
            </a:r>
            <a:r>
              <a:rPr b="1" lang="pl-PL" sz="1300" spc="-1" strike="noStrike">
                <a:solidFill>
                  <a:srgbClr val="00b050"/>
                </a:solidFill>
                <a:latin typeface="Georgia"/>
              </a:rPr>
              <a:t>1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+ 2 + 4 = 7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w rzędzie dziesiątek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wpisujemy 7</a:t>
            </a:r>
            <a:br>
              <a:rPr sz="1300"/>
            </a:b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– dodajemy setki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300" spc="-1" strike="noStrike">
                <a:solidFill>
                  <a:srgbClr val="000000"/>
                </a:solidFill>
                <a:latin typeface="Georgia"/>
              </a:rPr>
              <a:t>124 + 349 = 473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1 2 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ole tekstowe 7"/>
          <p:cNvSpPr/>
          <p:nvPr/>
        </p:nvSpPr>
        <p:spPr>
          <a:xfrm>
            <a:off x="7161840" y="2916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4 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0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281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2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83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284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1 2 4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5" name="pole tekstowe 13"/>
            <p:cNvSpPr/>
            <p:nvPr/>
          </p:nvSpPr>
          <p:spPr>
            <a:xfrm>
              <a:off x="7161840" y="45720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4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6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7" name="pole tekstowe 15"/>
            <p:cNvSpPr/>
            <p:nvPr/>
          </p:nvSpPr>
          <p:spPr>
            <a:xfrm>
              <a:off x="6969240" y="450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88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ole tekstowe 18"/>
          <p:cNvSpPr/>
          <p:nvPr/>
        </p:nvSpPr>
        <p:spPr>
          <a:xfrm>
            <a:off x="734760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Elipsa 1"/>
          <p:cNvSpPr/>
          <p:nvPr/>
        </p:nvSpPr>
        <p:spPr>
          <a:xfrm>
            <a:off x="7561440" y="4379760"/>
            <a:ext cx="250560" cy="5050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Elipsa 20"/>
          <p:cNvSpPr/>
          <p:nvPr/>
        </p:nvSpPr>
        <p:spPr>
          <a:xfrm>
            <a:off x="7391520" y="4149720"/>
            <a:ext cx="250560" cy="73512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Elipsa 21"/>
          <p:cNvSpPr/>
          <p:nvPr/>
        </p:nvSpPr>
        <p:spPr>
          <a:xfrm>
            <a:off x="7188120" y="4379760"/>
            <a:ext cx="250920" cy="5050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75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75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75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" nodeType="with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7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75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75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6" nodeType="with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3" descr="C:\Users\Ania\AppData\Local\Microsoft\Windows\Temporary Internet Files\Content.IE5\SI614T7F\MP900439302[1].jpg"/>
          <p:cNvPicPr/>
          <p:nvPr/>
        </p:nvPicPr>
        <p:blipFill>
          <a:blip r:embed="rId1"/>
          <a:srcRect l="0" t="19518" r="0" b="3325"/>
          <a:stretch/>
        </p:blipFill>
        <p:spPr>
          <a:xfrm>
            <a:off x="5472000" y="765000"/>
            <a:ext cx="3495960" cy="1671840"/>
          </a:xfrm>
          <a:prstGeom prst="rect">
            <a:avLst/>
          </a:prstGeom>
          <a:ln w="0">
            <a:noFill/>
          </a:ln>
        </p:spPr>
      </p:pic>
      <p:pic>
        <p:nvPicPr>
          <p:cNvPr id="296" name="Obraz 5" descr=""/>
          <p:cNvPicPr/>
          <p:nvPr/>
        </p:nvPicPr>
        <p:blipFill>
          <a:blip r:embed="rId2"/>
          <a:srcRect l="35875" t="22486" r="2451" b="3104"/>
          <a:stretch/>
        </p:blipFill>
        <p:spPr>
          <a:xfrm>
            <a:off x="5708520" y="2492280"/>
            <a:ext cx="3338640" cy="40528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32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424456"/>
                </a:solidFill>
                <a:latin typeface="Trebuchet MS"/>
              </a:rPr>
              <a:t>Wykonaj dodawanie </a:t>
            </a:r>
            <a:r>
              <a:rPr b="1" lang="pl-PL" sz="2400" spc="-1" strike="noStrike">
                <a:solidFill>
                  <a:srgbClr val="424456"/>
                </a:solidFill>
                <a:latin typeface="Trebuchet MS"/>
              </a:rPr>
              <a:t>396 + 29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Krok 1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– podpisujemy prawidłowo liczby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Krok 2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– dodajemy jedności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6 + 9 = 15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15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to 1 dziesiątka i 5 jedności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w rzędzie jedności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wpisujemy 5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300" spc="-1" strike="noStrike">
                <a:solidFill>
                  <a:srgbClr val="00b050"/>
                </a:solidFill>
                <a:latin typeface="Georgia"/>
              </a:rPr>
              <a:t>1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dziesiątkę dopisujemy do rzędu dziesiątek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Krok 3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– dodajemy dziesiątki </a:t>
            </a:r>
            <a:r>
              <a:rPr b="1" lang="pl-PL" sz="1100" spc="-1" strike="noStrike">
                <a:solidFill>
                  <a:srgbClr val="00b050"/>
                </a:solidFill>
                <a:latin typeface="Georgia"/>
              </a:rPr>
              <a:t>1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+ 9 + 2 = 12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12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to </a:t>
            </a:r>
            <a:r>
              <a:rPr b="1" lang="pl-PL" sz="1100" spc="-1" strike="noStrike">
                <a:solidFill>
                  <a:srgbClr val="00b0f0"/>
                </a:solidFill>
                <a:latin typeface="Georgia"/>
              </a:rPr>
              <a:t>1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setka i 2 jedności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w rzędzie dziesiątek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wpisujemy 2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pl-PL" sz="1300" spc="-1" strike="noStrike">
                <a:solidFill>
                  <a:srgbClr val="00b0f0"/>
                </a:solidFill>
                <a:latin typeface="Georgia"/>
              </a:rPr>
              <a:t>1</a:t>
            </a:r>
            <a:r>
              <a:rPr b="0" lang="pl-PL" sz="1100" spc="-1" strike="noStrike">
                <a:solidFill>
                  <a:srgbClr val="00b0f0"/>
                </a:solidFill>
                <a:latin typeface="Georgia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setkę dopisujemy do rzędu setek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Krok 4 </a:t>
            </a: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– dodajemy setki </a:t>
            </a:r>
            <a:r>
              <a:rPr b="1" lang="pl-PL" sz="1100" spc="-1" strike="noStrike">
                <a:solidFill>
                  <a:srgbClr val="00b0f0"/>
                </a:solidFill>
                <a:latin typeface="Georgia"/>
              </a:rPr>
              <a:t>1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+ 3 = 4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116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Georgia"/>
              </a:rPr>
              <a:t>Suma liczb </a:t>
            </a:r>
            <a:r>
              <a:rPr b="1" lang="pl-PL" sz="1100" spc="-1" strike="noStrike">
                <a:solidFill>
                  <a:srgbClr val="000000"/>
                </a:solidFill>
                <a:latin typeface="Georgia"/>
              </a:rPr>
              <a:t>396 + 29 = 425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ole tekstowe 6"/>
          <p:cNvSpPr/>
          <p:nvPr/>
        </p:nvSpPr>
        <p:spPr>
          <a:xfrm>
            <a:off x="7161840" y="27082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3 9 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ole tekstowe 7"/>
          <p:cNvSpPr/>
          <p:nvPr/>
        </p:nvSpPr>
        <p:spPr>
          <a:xfrm>
            <a:off x="7347600" y="29163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 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01" name="Grupa 24"/>
          <p:cNvGrpSpPr/>
          <p:nvPr/>
        </p:nvGrpSpPr>
        <p:grpSpPr>
          <a:xfrm>
            <a:off x="6875640" y="2860560"/>
            <a:ext cx="1081080" cy="398880"/>
            <a:chOff x="6875640" y="2860560"/>
            <a:chExt cx="1081080" cy="398880"/>
          </a:xfrm>
        </p:grpSpPr>
        <p:sp>
          <p:nvSpPr>
            <p:cNvPr id="302" name="Łącznik prostoliniowy 9"/>
            <p:cNvSpPr/>
            <p:nvPr/>
          </p:nvSpPr>
          <p:spPr>
            <a:xfrm>
              <a:off x="6875640" y="321336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3" name="pole tekstowe 11"/>
            <p:cNvSpPr/>
            <p:nvPr/>
          </p:nvSpPr>
          <p:spPr>
            <a:xfrm>
              <a:off x="6969240" y="286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04" name="Grupa 25"/>
          <p:cNvGrpSpPr/>
          <p:nvPr/>
        </p:nvGrpSpPr>
        <p:grpSpPr>
          <a:xfrm>
            <a:off x="6875640" y="4357800"/>
            <a:ext cx="1081080" cy="582480"/>
            <a:chOff x="6875640" y="4357800"/>
            <a:chExt cx="1081080" cy="582480"/>
          </a:xfrm>
        </p:grpSpPr>
        <p:sp>
          <p:nvSpPr>
            <p:cNvPr id="305" name="pole tekstowe 12"/>
            <p:cNvSpPr/>
            <p:nvPr/>
          </p:nvSpPr>
          <p:spPr>
            <a:xfrm>
              <a:off x="7161840" y="435780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3 9 6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6" name="pole tekstowe 13"/>
            <p:cNvSpPr/>
            <p:nvPr/>
          </p:nvSpPr>
          <p:spPr>
            <a:xfrm>
              <a:off x="7175880" y="4572000"/>
              <a:ext cx="68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   </a:t>
              </a: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2 9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7" name="Łącznik prostoliniowy 14"/>
            <p:cNvSpPr/>
            <p:nvPr/>
          </p:nvSpPr>
          <p:spPr>
            <a:xfrm>
              <a:off x="6875640" y="4862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8" name="pole tekstowe 15"/>
            <p:cNvSpPr/>
            <p:nvPr/>
          </p:nvSpPr>
          <p:spPr>
            <a:xfrm>
              <a:off x="6969240" y="4509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09" name="pole tekstowe 16"/>
          <p:cNvSpPr/>
          <p:nvPr/>
        </p:nvSpPr>
        <p:spPr>
          <a:xfrm>
            <a:off x="75427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ole tekstowe 23"/>
          <p:cNvSpPr/>
          <p:nvPr/>
        </p:nvSpPr>
        <p:spPr>
          <a:xfrm>
            <a:off x="714276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ole tekstowe 26"/>
          <p:cNvSpPr/>
          <p:nvPr/>
        </p:nvSpPr>
        <p:spPr>
          <a:xfrm>
            <a:off x="736200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ole tekstowe 18"/>
          <p:cNvSpPr/>
          <p:nvPr/>
        </p:nvSpPr>
        <p:spPr>
          <a:xfrm>
            <a:off x="734760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ole tekstowe 19"/>
          <p:cNvSpPr/>
          <p:nvPr/>
        </p:nvSpPr>
        <p:spPr>
          <a:xfrm>
            <a:off x="7142760" y="4149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Elipsa 1"/>
          <p:cNvSpPr/>
          <p:nvPr/>
        </p:nvSpPr>
        <p:spPr>
          <a:xfrm>
            <a:off x="7564320" y="4367160"/>
            <a:ext cx="247680" cy="50184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Elipsa 21"/>
          <p:cNvSpPr/>
          <p:nvPr/>
        </p:nvSpPr>
        <p:spPr>
          <a:xfrm>
            <a:off x="7377120" y="4218120"/>
            <a:ext cx="247680" cy="6508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Elipsa 22"/>
          <p:cNvSpPr/>
          <p:nvPr/>
        </p:nvSpPr>
        <p:spPr>
          <a:xfrm>
            <a:off x="7164360" y="4218120"/>
            <a:ext cx="249120" cy="650880"/>
          </a:xfrm>
          <a:prstGeom prst="ellipse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7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7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7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7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25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75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75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7" nodeType="with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7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250"/>
                            </p:stCondLst>
                            <p:childTnLst>
                              <p:par>
                                <p:cTn id="424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75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75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with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7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7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25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7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delay="25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75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75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2:59:35Z</dcterms:created>
  <dc:creator>Ania</dc:creator>
  <dc:description/>
  <dc:language>en-US</dc:language>
  <cp:lastModifiedBy>Ania</cp:lastModifiedBy>
  <dcterms:modified xsi:type="dcterms:W3CDTF">2013-08-21T12:43:16Z</dcterms:modified>
  <cp:revision>46</cp:revision>
  <dc:subject/>
  <dc:title>Prezentacja programu PowerPoint</dc:title>
</cp:coreProperties>
</file>